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5AE-7D53-4044-A64B-4F4C8241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DF6-4C72-4F06-9572-B51A9A0C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763-6DD5-40B2-8682-961B7339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EBC-3D4C-4FD0-8C37-48E6558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67B-815E-4DB1-A8C9-0252985D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86AB-D734-4A9C-AF53-F8FBADE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726-C4B6-46D8-9F8E-D94FB49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0B4-225C-43E6-AD3A-F59A8E1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659-0D60-4AD8-A08F-570632D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2A01-A6DA-4C9E-A4EC-8696E3F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037F-571A-4086-A030-25E426F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A83-1458-4368-AE0C-EE15CDD6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D92-2ADD-4E51-AEFC-DEBE15F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5084-D53F-451C-813E-1DB5228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F228-8051-4C64-A7F2-F5488F36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97DD-CE88-4023-A83F-B930B4D7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3AE-7094-4F7A-A24D-85FE66E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F1F5-9720-4D67-AE47-C21E0EED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AF7C-B7A8-4F60-9320-4A59DE7F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A21A-931E-4618-9A40-D44859F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2EDA-5DDC-4B03-9B84-9FE314C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F590-E084-41BF-8E74-DE1A92C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306-981C-4B8B-B3EB-17C3FDF0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0AF3-6EF7-43AF-A3C3-4561612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A0D1-623B-422E-812B-16DA2FD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0FE5-884B-427D-A399-9F5312C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01DA-75A7-4611-898C-DAA0551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0539-6663-4FA6-9C1C-0F54E81C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AAA3-BD97-43AC-9962-1F9CEEC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A835-72AD-4F22-B4C7-0DA75BA6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B61E-29E2-42E2-B636-A43A4D9D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5D10-2784-468F-9145-C4A8098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881B-9E56-40FB-B440-93040633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156-6426-4608-9AC4-5E0507C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5074-C2B9-429E-8C88-16F7653C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6315-E3D8-49A0-B9D0-E6D6184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FDEC-98C5-4B64-B5EB-4287C62F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6609-FB04-4AF8-BB6B-5FE99E1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D476-D565-4CB3-8DD1-AC7AE2A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2568-B2BA-48AC-9AE1-03A6AC6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1494-428A-4ABF-95FF-726BA35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30B6-3525-4E18-B8AD-BB22C57C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1841-29FA-4E66-8723-4F37D679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F5E-FABF-45DE-A0B5-4E325CA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F21-4347-4027-84AB-6945CA1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499-1D57-47D0-B410-C150E1A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584-EC78-4B76-BE03-C0AC4F1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F54-C114-4D9A-A0C7-23E08A5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A19-D44D-4F3C-81A3-02DA3685D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BD6-22E4-4AB0-A951-167A313CB5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31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8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4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5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49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53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7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61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4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9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8BF-5D57-469E-AEA5-0F39E6557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1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9C0-4D7F-43F1-98A6-3F01D4597A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Урок в 7 классе</a:t>
            </a:r>
            <a:br>
              <a:rPr sz="3800"/>
            </a:br>
            <a:r>
              <a:rPr b="0" lang="ru-RU" sz="4100" spc="-1" strike="noStrike">
                <a:solidFill>
                  <a:srgbClr val="8b0f59"/>
                </a:solidFill>
                <a:latin typeface="Arial"/>
              </a:rPr>
              <a:t>«Математик – бизнесмен»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600cc"/>
                </a:solidFill>
                <a:latin typeface="Arial"/>
              </a:rPr>
              <a:t>Тема: «СВОЙСТВА  СТЕПЕНИ»</a:t>
            </a:r>
            <a:r>
              <a:rPr b="0" lang="en-US" sz="39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читель : Чугунова Татьяна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просы по 200 рублей</a:t>
            </a:r>
            <a:br>
              <a:rPr sz="4400"/>
            </a:br>
            <a:r>
              <a:rPr b="0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Вычислить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03280" y="2060640"/>
            <a:ext cx="7345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( 7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9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▪ 7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5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 :  7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12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(2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5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▪ (2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4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: 2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13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( (5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8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2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▪ 5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7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 : 5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22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(2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5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: 2</a:t>
            </a:r>
            <a:r>
              <a:rPr b="0" lang="ru-RU" sz="3600" spc="-1" strike="noStrike" baseline="30000">
                <a:solidFill>
                  <a:srgbClr val="000099"/>
                </a:solidFill>
                <a:latin typeface="Verdana"/>
              </a:rPr>
              <a:t>6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▪ 4 =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276720" y="1916280"/>
            <a:ext cx="29718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4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полнительные 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гадай, кто как зовётся, что за деньги продаётся. Это не чудесный дар, а просто – напрос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б продукты потреблять, в платьях ярких щеголять, чтобы вкусно есть и пить, надо всё э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____________________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84360" y="53881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Verdana"/>
              </a:rPr>
              <a:t>Подведение итогов  уро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едметные недели в школе. МАТЕМАТИКА. Составитель Л.В. Гончаров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ик Алгебра 7 класс, автор Ю.Н. Макарычев и др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ЛГЕБРА  7 класс, поурочные планы по учебнику Ю.Н. Макарычева, Н.Г. Миндюк, К.И. Нешкова, С.Б.Суворов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явить  степень усвоения учащимися изученного материал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вивать навыки самостоятельной рабо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вивать интерес к предмет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вивать навыки работы в группа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103320"/>
            <a:ext cx="83628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евиз урока: «Торопись медленно!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042920" y="242100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2 команды – 2 БАН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927360" y="3933720"/>
            <a:ext cx="70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ЗАДАЧА – УВЕЛИЧИТЬ СТАРТОВЫЙ  КАПИТА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       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(500 руб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Вопросы по 50 рубл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11280" y="1197000"/>
            <a:ext cx="434196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2 ▪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x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4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10</a:t>
            </a:r>
            <a:r>
              <a:rPr b="1" lang="ru-RU" sz="2400" spc="-1" strike="noStrike" baseline="30000">
                <a:solidFill>
                  <a:srgbClr val="cc0066"/>
                </a:solidFill>
                <a:latin typeface="Verdana"/>
              </a:rPr>
              <a:t>2 ▪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10</a:t>
            </a:r>
            <a:r>
              <a:rPr b="1" lang="ru-RU" sz="2400" spc="-1" strike="noStrike" baseline="30000">
                <a:solidFill>
                  <a:srgbClr val="cc0066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▪ 10</a:t>
            </a:r>
            <a:r>
              <a:rPr b="1" lang="ru-RU" sz="2400" spc="-1" strike="noStrike" baseline="30000">
                <a:solidFill>
                  <a:srgbClr val="cc006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: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3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8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: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5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Физкультминут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(2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3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)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(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x y)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(3a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)</a:t>
            </a:r>
            <a:r>
              <a:rPr b="1" lang="en-US" sz="2400" spc="-1" strike="noStrike" baseline="30000">
                <a:solidFill>
                  <a:srgbClr val="cc0066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cc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967120" y="200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073760" y="1684440"/>
            <a:ext cx="1474200" cy="73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-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9a</a:t>
            </a:r>
            <a:r>
              <a:rPr b="1" lang="en-US" sz="3200" spc="-1" strike="noStrike" baseline="30000">
                <a:solidFill>
                  <a:srgbClr val="ff33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полнительные 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ать определение степ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перемножить степ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разделить степ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Как возвести степень в степен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кажите: «Где на практике можно использовать степен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просы по 100 рубл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627280" y="1484280"/>
            <a:ext cx="475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Записать в виде степени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. 5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8 ▪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25 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2. 2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9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▪ 32 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3. 3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12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▪ 27 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4. Вычислить: 0,4 ▪5 ▪ 10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5. 0,5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10 :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0,5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7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6. 10 -5 ▪ 2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4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7. 0,001 ▪ 0,1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=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8. ( 0,3)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5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: (0,3)</a:t>
            </a:r>
            <a:r>
              <a:rPr b="1" lang="ru-RU" sz="20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=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258920" y="1860480"/>
            <a:ext cx="756108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5</a:t>
            </a:r>
            <a:r>
              <a:rPr b="1" lang="ru-RU" sz="2800" spc="-1" strike="noStrike" baseline="30000">
                <a:solidFill>
                  <a:srgbClr val="ff3300"/>
                </a:solidFill>
                <a:latin typeface="Verdana"/>
              </a:rPr>
              <a:t>10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5.   0,12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ru-RU" sz="2800" spc="-1" strike="noStrike" baseline="30000">
                <a:solidFill>
                  <a:srgbClr val="ff3300"/>
                </a:solidFill>
                <a:latin typeface="Verdana"/>
              </a:rPr>
              <a:t>14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6.   -7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ru-RU" sz="2800" spc="-1" strike="noStrike" baseline="30000">
                <a:solidFill>
                  <a:srgbClr val="ff3300"/>
                </a:solidFill>
                <a:latin typeface="Verdana"/>
              </a:rPr>
              <a:t>15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                   7.   0,0000000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20000               8.   0,0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ff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полнительные 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63480" y="1932120"/>
            <a:ext cx="765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кажите: « Где встречали  в художественной литературе упоминание о степени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Как называется дело, приносящее   доход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Что помогает помочь увеличить продажу товар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Плата за кредит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Как называются деньги иностранного государства?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6:51:27Z</dcterms:created>
  <dc:creator>User</dc:creator>
  <dc:description/>
  <dc:language>en-US</dc:language>
  <cp:lastModifiedBy>Admin</cp:lastModifiedBy>
  <dcterms:modified xsi:type="dcterms:W3CDTF">2014-12-07T14:12:16Z</dcterms:modified>
  <cp:revision>52</cp:revision>
  <dc:subject/>
  <dc:title>Урок в 7 классе «Математик – бизнесмен»</dc:title>
</cp:coreProperties>
</file>