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42513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A9F-098B-45CF-BEDC-4DC76598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78C-85CB-4B8A-B66A-A65892A0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B97-39B2-42C5-83D5-17C7E7DF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80F-2F23-42AD-9673-1BE41C98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8E7-F0BE-4CF3-A402-3D9D6EA5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003-0646-4818-9F5B-0CA90177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7F0-3061-444E-8C60-B076CDDD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068-03D8-420D-ADD6-11A109F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3A6-67B6-40D5-9B14-8172715C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CDA-6EDA-4765-A0AD-945403AC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C14-7DC1-4A37-82B0-8E579740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4D7-2B03-464B-8426-118B4DA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A142-8C45-4BE7-BC0A-BAC58F22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ПОУ «Курский базовый медицинский колледж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6200" y="836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М 02. УЧАСТИЕ В ЛЕЧЕБНО-ДИАГНОСТИЧЕСКОМ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И РЕАБИЛИТАЦИОННОМ ПРОЦЕССАХ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530064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подаватель Т. В. Оку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Сестринский уход в педиатрии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00" y="2602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ьность: Сестринское д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2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ДК 02.01 Сестринский уход при различных заболеваниях и состояния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3028320"/>
            <a:ext cx="827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ция №1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нципы сестринской помощи новорожденным при пограничных состояниях, недоношенности, заболеваниях и неотложных состояниях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997360"/>
            <a:ext cx="770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11280" y="-720"/>
            <a:ext cx="67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Модель сестринского процесса Вирджинии Хендерс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7880" y="332280"/>
            <a:ext cx="77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4 основных (фундаментальных) жизненных потре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78680"/>
            <a:ext cx="914400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ьное дых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екватное питание и пит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даление из организма продуктов жизне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держание правильного положения тела, когда он лежит, сидит, ходит, а также помощь ему при перемене положения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н и отд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бор необходимой одежды и ее оде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держание нормальной температуры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людение личной гигиены, забота о внешне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держание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держание общения с другими людьми, необходимость выражать свои эмоции и чув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йствие в отправлении своих религиозных обрядов и следовании своим принцип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заниматься любимым д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йствие в организации отдыха и развле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йствие в обучении паци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560" y="3211920"/>
            <a:ext cx="7090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требность удовлетворена - нет пробл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640" y="189000"/>
            <a:ext cx="75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отребность не удовлетворена - есть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3800" y="112536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3889440" cy="242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56000" y="3860640"/>
            <a:ext cx="3600360" cy="287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229440" y="4365720"/>
            <a:ext cx="49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" y="364428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II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ла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9040" y="26028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Этапы сестринск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08000">
            <a:off x="3132000" y="1413000"/>
            <a:ext cx="3095640" cy="3024000"/>
          </a:xfrm>
          <a:prstGeom prst="pentag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16200" y="1989000"/>
            <a:ext cx="1909800" cy="1873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1800" y="1296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сле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70880" y="1412640"/>
            <a:ext cx="286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I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естринский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иа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2160" y="364428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V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ыпо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22680" y="479664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V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2867040"/>
            <a:ext cx="6624720" cy="372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4000" y="766800"/>
            <a:ext cx="716436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. Обследование паци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Выявление настоящих и потенциальных проблем, определение потребностей (сестринский диагно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цели и планирование сестринск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плана сестринск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эффективности сестринского проц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6000" y="0"/>
            <a:ext cx="512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естринский процесс состоит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из 5 последовательных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800" y="-1800"/>
            <a:ext cx="89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I этап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ыявление настоящих и потенциальных проблем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         и определение приоритетных проблем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         (постановка сестринского диагноз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155736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1628640"/>
            <a:ext cx="76345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ить причины, вызывающие проблемы пациента, связанные со здоров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0" y="299736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ействия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едсес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3095640"/>
            <a:ext cx="6842160" cy="116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анализировать полученные д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дентифицировать настоящие и потенциальные проблемы пациента, выделить приорите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59640" y="45086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1800" y="-1800"/>
            <a:ext cx="89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I этап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ыявление настоящих и потенциальных проблем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         и определение приоритетных проблем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         (постановка сестринского диагноз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" y="141300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стоя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28000" cy="83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еются в настоящий момент (на момент обследова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581508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00" y="249228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0" y="3645000"/>
            <a:ext cx="24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иорит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2564280"/>
            <a:ext cx="6350040" cy="83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х можно избежать при организации качественного сестринского ух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3642840"/>
            <a:ext cx="6659640" cy="2674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оочередные, самые важные для пациент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Все неотложные состоя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Проблемы, ведущие к осложнен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Проблемы, первоочередное решение которых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приведет к разрешению друг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Наиболее мучительные проблемы, которые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постоянно беспокоят пациент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720" y="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I эта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2000" y="105264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Запись в сестринской ист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773360"/>
            <a:ext cx="7705800" cy="151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стринские диагно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оящие (и из них – приорите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588000" y="4221000"/>
            <a:ext cx="2328840" cy="237492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  <p:sp>
        <p:nvSpPr>
          <p:cNvPr id="108" name=""/>
          <p:cNvSpPr/>
          <p:nvPr/>
        </p:nvSpPr>
        <p:spPr>
          <a:xfrm flipV="1" rot="5400000">
            <a:off x="1367640" y="3895200"/>
            <a:ext cx="1584360" cy="79236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000" y="551664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а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7200" y="47520"/>
            <a:ext cx="60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этап: Планирование сестринск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413000"/>
            <a:ext cx="7490160" cy="2735280"/>
          </a:xfrm>
          <a:prstGeom prst="foldedCorner">
            <a:avLst>
              <a:gd name="adj" fmla="val 19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Планирование - это документирование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нкретных ожидаемых результатов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стринского вмешательства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соответствии с планом сестринского ух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РБ В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73440" y="4653000"/>
            <a:ext cx="17953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7200" y="47520"/>
            <a:ext cx="60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этап: Планирование сестринск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618840"/>
            <a:ext cx="7632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ать способы достижения эффективности (ожидаемого результата) сестринской помощи, меры по профилактике и реабилитации забол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0" y="61920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3080" y="292428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19280" y="3429000"/>
            <a:ext cx="865080" cy="57636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3429000"/>
            <a:ext cx="863640" cy="57636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4008960"/>
            <a:ext cx="25207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4008960"/>
            <a:ext cx="2541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гов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7200" y="47520"/>
            <a:ext cx="60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этап: Планирование сестринск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133720"/>
            <a:ext cx="7632720" cy="192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 должны быть реа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 должны находиться в пределах сестринской компет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 должны быть согласованы с пожеланиями родителей новорожденно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160" y="836640"/>
            <a:ext cx="382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 постановке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естринск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25440" y="40464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ле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6080" y="1763640"/>
            <a:ext cx="8510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и сестринского процесса при работе с новорожденными и недоношенными дет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первичной  сестринской оценки состоя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и сбора информации о пациен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ирование и осуществление сестринск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7200" y="47520"/>
            <a:ext cx="60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этап: Планирование сестринск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1440" y="62064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лан ухода за паци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125360"/>
            <a:ext cx="86407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робное перечисление специальных действий медицинской сестры, необходимых для достижения целей у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376360" cy="1776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3960" y="3956040"/>
            <a:ext cx="7720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ндивидуализировать план у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судить с родителями план у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отивировать их на взаимодействие и сотруд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менять исходя из конкре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1440" y="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II эта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000" y="105264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Запись в сестринской ист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73360"/>
            <a:ext cx="7705800" cy="1044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сестринского у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тивация сестрински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 rot="5400000">
            <a:off x="1367640" y="3895200"/>
            <a:ext cx="1584360" cy="79236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7440" y="55166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а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" y="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этап. Реализация плана сестринск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0" y="8366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836640"/>
            <a:ext cx="5905440" cy="167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ение запланированных мероприяти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координация работы по предоставлению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стринского ухода в конкретные сроки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ское документир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2579760" cy="2021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0" y="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этап. Реализация плана сестринск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80160" y="581040"/>
            <a:ext cx="649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ипы реализации сестринск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сестринских вмешатель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628640"/>
            <a:ext cx="2808000" cy="1297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висимые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ешательств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о назначению врача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1628640"/>
            <a:ext cx="2808360" cy="1297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висимые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ешательств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амостоятельны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я медсестры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95640" y="3860640"/>
            <a:ext cx="2808360" cy="1297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зависимые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ешательств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овместна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ь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2349360"/>
            <a:ext cx="216000" cy="1224000"/>
          </a:xfrm>
          <a:prstGeom prst="downArrow">
            <a:avLst>
              <a:gd name="adj1" fmla="val 50000"/>
              <a:gd name="adj2" fmla="val 141667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860720" y="177156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3708360" y="1771560"/>
            <a:ext cx="216000" cy="936720"/>
          </a:xfrm>
          <a:prstGeom prst="downArrow">
            <a:avLst>
              <a:gd name="adj1" fmla="val 50000"/>
              <a:gd name="adj2" fmla="val 108417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5229360"/>
            <a:ext cx="2412720" cy="13572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3116160"/>
            <a:ext cx="2663640" cy="1776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012000" y="306864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20" y="0"/>
            <a:ext cx="86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этап. Оценка эффективности сестринск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2400" y="805320"/>
            <a:ext cx="7687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достижения цели и ожидаемых результ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80" y="76500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2203560"/>
            <a:ext cx="3887640" cy="136836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новорожденного пациент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 сестринское вмеш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3429000"/>
            <a:ext cx="3671640" cy="136836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ижения ц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4581360"/>
            <a:ext cx="3672000" cy="136872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честв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азан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7513"/>
          <a:stretch/>
        </p:blipFill>
        <p:spPr>
          <a:xfrm>
            <a:off x="0" y="4788000"/>
            <a:ext cx="2664000" cy="207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5672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19280" y="0"/>
            <a:ext cx="75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Особ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сестринского процесса в педиа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88800" cy="1187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1279080"/>
            <a:ext cx="9144000" cy="54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1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рудности при субъективном обследова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ети могут быть пугливы, не знать нужной информации, редко локализуют боль и предъявляют определенные жалоб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рудности при объективном обследова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необходимость учитывать возрастные анатомо-физиологические особенности органов и систем, возрастные особенности течения патологического процес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 планировании и реализации ух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еобходимо помнить о возрастной диететике, о возрастной фармакологии, о психологических особенностях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ольшая роль матери ребенка в эффективности ух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ри грамотной организации медицинской сестрой взаимоотношений с родителями, они могут стать надежными помощниками в осуществлении сестринск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3680" y="346320"/>
            <a:ext cx="8755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естринский проце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ный метод организации и исполнения системного ухода за пациентами, требующий от сестры умения индивидуализировать и систематизировать 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3600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329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ессиональная компетентность, навыки наблюдения, общения, анализа и интерпретации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доверительной обстановки при общении с пациен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людение конфиденциа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гласие и взаимодействие пациента в планировании и реализации сестринск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стная работа в медицинской бригаде и помощь других специалистов, при необходим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360" y="1268280"/>
            <a:ext cx="38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бязательные усл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деятельности сест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9000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естринский 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5242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3680" y="145800"/>
            <a:ext cx="87552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естринская помощь новорожде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ми задачами сестринской помощи новорожденным 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илактика развития патологических процессов у новорожденных детей путем сестринского наблюдения и ухо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нняя сестринская диагностика и осуществление дальнейших этапов сестринского процесса у  новорожденных с начальными признаками заболе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ание реанимационной помощи при неотложных состоя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ухода с созданием оптимальных условий выхаживания новорожденных и недоношенных детей и их вскармли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ультирование и обучение кормящей матери уходу за новорожден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огое соблюдение требований санитарно-противоэпидемического режима акушерского стационара при работе с новорожденными и их матер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3680" y="118440"/>
            <a:ext cx="87552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естринский уход за новорожде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ебя следующие вопрос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медицинской сестрой функционального состояния органов и систем новорождённого. Симптомы, требующие консультации врача или госпитализации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ирование родителей по вопросам состояния здоровья, роста и развития ребёнка на первом месяце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родителей проведению процедур ухода за ребён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ь родителям в принятии информированного решения по уходу за новорождённым в домашних услов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адаптации ребенка к новым условиям на первом месяце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физического и НП-развития новорождё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дное вскармливание, его роль в формировании органов и систем ребёнка. Принципы и организация грудного вскармливания новорождённого. Техника грудного вскармли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питания ребёнка при невозможности грудного вскармливания. Нарушения питания и основы ухода при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ы ухода за кожей и слизистыми оболочками здорового ребёнка и при функциональных состоя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функционирования желудочно-кишечного тракта новорождённого. Принципы ухода при различных функциональных наруш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200" y="249120"/>
            <a:ext cx="87138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ные принципы взаимоотношения медицинских сестер с родител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овать профессионально, в пределах своей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ать доброжелательное отношение с детьми и их близ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выслушать ребенка и его родителей, понять их пере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ть ребенка и его родителей в трудных ситуациях, своевременно снимать психоэмоциональное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аково ровно относится ко всем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ять сдержанность, спокойствие и тактичность при выполнении своих профессиональных обяза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0956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29440" y="1890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естринский 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70080" y="69228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Условие осуществления сестринского процесс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013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астие пациента, членов его семь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ринятии решений относительно целей ухода, плана и способов сестринского вмеш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1903320"/>
            <a:ext cx="3527280" cy="3049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88040" y="1268280"/>
            <a:ext cx="2487600" cy="302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10800000">
            <a:off x="4356000" y="3428640"/>
            <a:ext cx="1873440" cy="865080"/>
          </a:xfrm>
          <a:custGeom>
            <a:avLst/>
            <a:gdLst>
              <a:gd name="textAreaLeft" fmla="*/ 292680 w 1873440"/>
              <a:gd name="textAreaRight" fmla="*/ 1639440 w 1873440"/>
              <a:gd name="textAreaTop" fmla="*/ 216360 h 865080"/>
              <a:gd name="textAreaBottom" fmla="*/ 64908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5083200"/>
            <a:ext cx="8496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ологический и психологический дефицит того, что существенно для здоровья и благополучия новорожд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6560" y="260280"/>
            <a:ext cx="28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Потреб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11280" y="1589040"/>
            <a:ext cx="3851280" cy="24163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20:24:37Z</dcterms:created>
  <dc:creator>Admin</dc:creator>
  <dc:description/>
  <dc:language>en-US</dc:language>
  <cp:lastModifiedBy>Admin</cp:lastModifiedBy>
  <dcterms:modified xsi:type="dcterms:W3CDTF">2018-01-13T20:06:04Z</dcterms:modified>
  <cp:revision>52</cp:revision>
  <dc:subject/>
  <dc:title>Слайд 1</dc:title>
</cp:coreProperties>
</file>