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3.gif" ContentType="image/gif"/>
  <Override PartName="/ppt/media/image13.jpeg" ContentType="image/jpeg"/>
  <Override PartName="/ppt/media/image4.png" ContentType="image/png"/>
  <Override PartName="/ppt/media/image2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20.jpeg" ContentType="image/jpeg"/>
  <Override PartName="/ppt/media/image17.wmf" ContentType="image/x-wmf"/>
  <Override PartName="/ppt/media/image19.png" ContentType="image/png"/>
  <Override PartName="/ppt/media/image26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7F38-7FE7-4236-AEE5-9916000F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02EC-2DA6-4CB2-A319-53FA2D12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4780-4EF8-4A01-8E28-DDF2B0A0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FAA9-8A8A-4FFA-AC25-B1FF538A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C3A9-098E-424A-B588-FEDE5B4D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AE97-831A-41D3-AB69-952B9B92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967A-3228-471F-9170-19D55ADA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001A-D60D-4B5F-9E50-DBF90EC2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4A87-4FAB-4EB6-B5AB-50C70032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94EB-DED6-4A1D-987A-11C28744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65E7-65F8-4142-9CCC-E1570744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B728B-D599-4299-B172-AE98954D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6FCB-BAE9-41CB-9860-BF3D32E7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82FB-F1FB-40F7-B413-75453748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412D-2A7F-41E9-8DD1-22C9DD23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D173-96FE-45CA-B9E8-296DBAB3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99A0-7401-4C07-8005-FC8489C5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8DC2-1C6B-4360-BB89-FEB3AAFB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901D-4AAE-42C8-BEDC-C6A02D4A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DF61-D8D7-4DCA-BBCD-36274E68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8451-B0F1-4FBF-9C85-E1930EF5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089B-EFD7-48D2-BD55-F73DC743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B628A-9E81-41C0-804A-BE165AA2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A865-03C7-419C-8FE4-34CD271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690E-AC96-40EB-BC93-DE348376F9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418200"/>
                  </a:gs>
                  <a:gs pos="100000">
                    <a:srgbClr val="3b7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418200"/>
                  </a:gs>
                  <a:gs pos="100000">
                    <a:srgbClr val="3b7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356b00"/>
                  </a:gs>
                  <a:gs pos="100000">
                    <a:srgbClr val="418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41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397200"/>
                  </a:gs>
                  <a:gs pos="100000">
                    <a:srgbClr val="4182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376e00"/>
                </a:gs>
                <a:gs pos="100000">
                  <a:srgbClr val="418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2a5400"/>
                </a:gs>
                <a:gs pos="100000">
                  <a:srgbClr val="418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418200"/>
                  </a:gs>
                  <a:gs pos="100000">
                    <a:srgbClr val="3b7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418200"/>
                  </a:gs>
                  <a:gs pos="100000">
                    <a:srgbClr val="3b7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356b00"/>
                  </a:gs>
                  <a:gs pos="100000">
                    <a:srgbClr val="418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41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397200"/>
                  </a:gs>
                  <a:gs pos="100000">
                    <a:srgbClr val="4182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376e00"/>
                </a:gs>
                <a:gs pos="100000">
                  <a:srgbClr val="418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2a5400"/>
                </a:gs>
                <a:gs pos="100000">
                  <a:srgbClr val="418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E3F2-178B-4E7F-81F5-E96388A9A7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When We Are Healthy, We Are Happy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AutoShape 5">
            <a:hlinkClick r:id="rId1" action="ppaction://hlinksldjump"/>
          </p:cNvPr>
          <p:cNvSpPr/>
          <p:nvPr/>
        </p:nvSpPr>
        <p:spPr>
          <a:xfrm>
            <a:off x="684360" y="4508640"/>
            <a:ext cx="2232000" cy="1726920"/>
          </a:xfrm>
          <a:prstGeom prst="roundRect">
            <a:avLst>
              <a:gd name="adj" fmla="val 2723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6" descr="citronu_bummbas_l_0"/>
          <p:cNvPicPr/>
          <p:nvPr/>
        </p:nvPicPr>
        <p:blipFill>
          <a:blip r:embed="rId3"/>
          <a:srcRect l="5748" t="1049" r="0" b="0"/>
          <a:stretch/>
        </p:blipFill>
        <p:spPr>
          <a:xfrm>
            <a:off x="6156360" y="4508640"/>
            <a:ext cx="2303280" cy="170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20"/>
          <p:cNvPicPr/>
          <p:nvPr/>
        </p:nvPicPr>
        <p:blipFill>
          <a:blip r:embed="rId4"/>
          <a:stretch/>
        </p:blipFill>
        <p:spPr>
          <a:xfrm>
            <a:off x="468360" y="333360"/>
            <a:ext cx="10746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the lesson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od bye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5"/>
          <p:cNvSpPr/>
          <p:nvPr/>
        </p:nvSpPr>
        <p:spPr>
          <a:xfrm>
            <a:off x="2714760" y="2286000"/>
            <a:ext cx="3857400" cy="135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d"/>
              </a:gs>
              <a:gs pos="50000">
                <a:srgbClr val="d3f9d4"/>
              </a:gs>
              <a:gs pos="100000">
                <a:srgbClr val="ffffbd"/>
              </a:gs>
            </a:gsLst>
            <a:lin ang="18900000"/>
          </a:gradFill>
          <a:ln w="9360">
            <a:solidFill>
              <a:srgbClr val="d7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12d"/>
                </a:solidFill>
                <a:latin typeface="Engravers MT"/>
              </a:rPr>
              <a:t>Healthy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12d"/>
                </a:solidFill>
                <a:latin typeface="Engravers MT"/>
              </a:rPr>
              <a:t> </a:t>
            </a:r>
            <a:r>
              <a:rPr b="1" lang="en-US" sz="2800" spc="-1" strike="noStrike">
                <a:solidFill>
                  <a:srgbClr val="09012d"/>
                </a:solidFill>
                <a:latin typeface="Engravers MT"/>
              </a:rPr>
              <a:t>life</a:t>
            </a:r>
            <a:r>
              <a:rPr b="1" lang="ru-RU" sz="2800" spc="-1" strike="noStrike">
                <a:solidFill>
                  <a:srgbClr val="09012d"/>
                </a:solidFill>
                <a:latin typeface="Engravers MT"/>
              </a:rPr>
              <a:t>   </a:t>
            </a:r>
            <a:r>
              <a:rPr b="1" lang="en-US" sz="2800" spc="-1" strike="noStrike">
                <a:solidFill>
                  <a:srgbClr val="09012d"/>
                </a:solidFill>
                <a:latin typeface="Engravers MT"/>
              </a:rPr>
              <a:t>sty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5400000">
            <a:off x="4068000" y="4147200"/>
            <a:ext cx="1152360" cy="2872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857760" y="21420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ae8ba"/>
                </a:solidFill>
                <a:latin typeface="Wingdings"/>
                <a:ea typeface="Wingdings"/>
              </a:rPr>
              <a:t>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 rot="12880800">
            <a:off x="1777680" y="1762200"/>
            <a:ext cx="1008000" cy="287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24"/>
          <p:cNvSpPr/>
          <p:nvPr/>
        </p:nvSpPr>
        <p:spPr>
          <a:xfrm rot="19307400">
            <a:off x="6481440" y="1852200"/>
            <a:ext cx="1008000" cy="2872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26"/>
          <p:cNvSpPr/>
          <p:nvPr/>
        </p:nvSpPr>
        <p:spPr>
          <a:xfrm rot="8260800">
            <a:off x="2190240" y="3848040"/>
            <a:ext cx="930600" cy="287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31"/>
          <p:cNvSpPr/>
          <p:nvPr/>
        </p:nvSpPr>
        <p:spPr>
          <a:xfrm rot="2862000">
            <a:off x="5973120" y="3921480"/>
            <a:ext cx="1204920" cy="330480"/>
          </a:xfrm>
          <a:prstGeom prst="pi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357120" y="642960"/>
            <a:ext cx="314316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ating a lot of frui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6786720" y="785880"/>
            <a:ext cx="2160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oing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xercis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6715080" y="4643280"/>
            <a:ext cx="2206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r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3071880" y="5429160"/>
            <a:ext cx="40003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leeping 8 hours a da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0" y="4500720"/>
            <a:ext cx="3071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iring the roo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9400" y="188640"/>
            <a:ext cx="66592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ae8ba"/>
                </a:solidFill>
                <a:latin typeface="Garamond"/>
              </a:rPr>
              <a:t>Пословицы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08000" y="1125360"/>
            <a:ext cx="500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1. Жить, чтобы жить, для того, чтобы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есть, не для того, чтобы есть, а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9600" y="1844640"/>
            <a:ext cx="543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2. Здоровье, и, рано, ложиться, встает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наживет, кто, ум, и, богатство, рано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5129280" y="1947960"/>
            <a:ext cx="37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3 Купишь, не, деньги, за, здоровье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6" descr="C:\Users\777\Pictures\emotional_eating-727434-1_490_310.jpg"/>
          <p:cNvPicPr/>
          <p:nvPr/>
        </p:nvPicPr>
        <p:blipFill>
          <a:blip r:embed="rId1"/>
          <a:stretch/>
        </p:blipFill>
        <p:spPr>
          <a:xfrm>
            <a:off x="324000" y="4500720"/>
            <a:ext cx="1901520" cy="120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2"/>
          <p:cNvPicPr/>
          <p:nvPr/>
        </p:nvPicPr>
        <p:blipFill>
          <a:blip r:embed="rId2"/>
          <a:stretch/>
        </p:blipFill>
        <p:spPr>
          <a:xfrm>
            <a:off x="7199280" y="5157720"/>
            <a:ext cx="1820880" cy="1325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"/>
          <p:cNvPicPr/>
          <p:nvPr/>
        </p:nvPicPr>
        <p:blipFill>
          <a:blip r:embed="rId3"/>
          <a:stretch/>
        </p:blipFill>
        <p:spPr>
          <a:xfrm>
            <a:off x="7229520" y="3147840"/>
            <a:ext cx="1836720" cy="1339920"/>
          </a:xfrm>
          <a:prstGeom prst="rect">
            <a:avLst/>
          </a:prstGeom>
          <a:ln w="0">
            <a:noFill/>
          </a:ln>
        </p:spPr>
      </p:pic>
      <p:sp>
        <p:nvSpPr>
          <p:cNvPr id="123" name="Выноска-облако 11"/>
          <p:cNvSpPr/>
          <p:nvPr/>
        </p:nvSpPr>
        <p:spPr>
          <a:xfrm>
            <a:off x="5651640" y="260280"/>
            <a:ext cx="3241440" cy="1368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20256"/>
                </a:solidFill>
                <a:uFillTx/>
                <a:latin typeface="Times New Roman"/>
              </a:rPr>
              <a:t>Задание 1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20256"/>
                </a:solidFill>
                <a:latin typeface="Times New Roman"/>
              </a:rPr>
              <a:t>Составь из слов пословицы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Выноска-облако 13"/>
          <p:cNvSpPr/>
          <p:nvPr/>
        </p:nvSpPr>
        <p:spPr>
          <a:xfrm flipH="1" rot="20997600">
            <a:off x="126720" y="2769840"/>
            <a:ext cx="3284280" cy="1281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20256"/>
                </a:solidFill>
                <a:uFillTx/>
                <a:latin typeface="Times New Roman"/>
              </a:rPr>
              <a:t>Задание 2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256"/>
                </a:solidFill>
                <a:latin typeface="Times New Roman"/>
              </a:rPr>
              <a:t>Match the Russian and English variants.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14"/>
          <p:cNvSpPr/>
          <p:nvPr/>
        </p:nvSpPr>
        <p:spPr>
          <a:xfrm>
            <a:off x="2700360" y="36194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256"/>
                </a:solidFill>
                <a:latin typeface="Times New Roman"/>
                <a:ea typeface="Times New Roman"/>
              </a:rPr>
              <a:t>a) Early to bed and early to rise makes a</a:t>
            </a:r>
            <a:r>
              <a:rPr b="1" lang="ru-RU" sz="2000" spc="-1" strike="noStrike">
                <a:solidFill>
                  <a:srgbClr val="12025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120256"/>
                </a:solidFill>
                <a:latin typeface="Times New Roman"/>
                <a:ea typeface="Times New Roman"/>
              </a:rPr>
              <a:t>man</a:t>
            </a:r>
            <a:r>
              <a:rPr b="1" lang="ru-RU" sz="2000" spc="-1" strike="noStrike">
                <a:solidFill>
                  <a:srgbClr val="12025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120256"/>
                </a:solidFill>
                <a:latin typeface="Times New Roman"/>
                <a:ea typeface="Times New Roman"/>
              </a:rPr>
              <a:t>healthy wealthy and wi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Прямоугольник 15"/>
          <p:cNvSpPr/>
          <p:nvPr/>
        </p:nvSpPr>
        <p:spPr>
          <a:xfrm>
            <a:off x="2664000" y="5303880"/>
            <a:ext cx="47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256"/>
                </a:solidFill>
                <a:latin typeface="Times New Roman"/>
                <a:ea typeface="Times New Roman"/>
              </a:rPr>
              <a:t>b) Money can buy a</a:t>
            </a:r>
            <a:r>
              <a:rPr b="1" lang="ru-RU" sz="2000" spc="-1" strike="noStrike">
                <a:solidFill>
                  <a:srgbClr val="12025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120256"/>
                </a:solidFill>
                <a:latin typeface="Times New Roman"/>
                <a:ea typeface="Times New Roman"/>
              </a:rPr>
              <a:t>tonic, but not healt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Прямоугольник 16"/>
          <p:cNvSpPr/>
          <p:nvPr/>
        </p:nvSpPr>
        <p:spPr>
          <a:xfrm>
            <a:off x="2685960" y="453384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256"/>
                </a:solidFill>
                <a:latin typeface="Times New Roman"/>
                <a:ea typeface="Times New Roman"/>
              </a:rPr>
              <a:t>c) Live not to eat</a:t>
            </a:r>
            <a:r>
              <a:rPr b="1" lang="ru-RU" sz="2000" spc="-1" strike="noStrike">
                <a:solidFill>
                  <a:srgbClr val="12025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120256"/>
                </a:solidFill>
                <a:latin typeface="Times New Roman"/>
                <a:ea typeface="Times New Roman"/>
              </a:rPr>
              <a:t>but eat to live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661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ae8ba"/>
                </a:solidFill>
                <a:latin typeface="Garamond"/>
              </a:rPr>
              <a:t>Пословицы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84320" y="1170000"/>
            <a:ext cx="5005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30320" y="1854360"/>
            <a:ext cx="543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C:\Users\777\Pictures\zdorovie1.jpg"/>
          <p:cNvPicPr/>
          <p:nvPr/>
        </p:nvPicPr>
        <p:blipFill>
          <a:blip r:embed="rId1"/>
          <a:stretch/>
        </p:blipFill>
        <p:spPr>
          <a:xfrm>
            <a:off x="468360" y="4437000"/>
            <a:ext cx="1295280" cy="19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325440" y="1268280"/>
          <a:ext cx="8567640" cy="3017880"/>
        </p:xfrm>
        <a:graphic>
          <a:graphicData uri="http://schemas.openxmlformats.org/drawingml/2006/table">
            <a:tbl>
              <a:tblPr/>
              <a:tblGrid>
                <a:gridCol w="4284720"/>
                <a:gridCol w="42829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1. Жить не для того чтобы есть, а есть для того чтобы жить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0256"/>
                          </a:solidFill>
                          <a:latin typeface="Bookman Old Style"/>
                          <a:ea typeface="Times New Roman"/>
                        </a:rPr>
                        <a:t>c) Live not to eat</a:t>
                      </a:r>
                      <a:r>
                        <a:rPr b="0" lang="ru-RU" sz="1800" spc="-1" strike="noStrike">
                          <a:solidFill>
                            <a:srgbClr val="120256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120256"/>
                          </a:solidFill>
                          <a:latin typeface="Bookman Old Style"/>
                          <a:ea typeface="Times New Roman"/>
                        </a:rPr>
                        <a:t>but eat to live</a:t>
                      </a:r>
                      <a:br>
                        <a:rPr sz="1800"/>
                      </a:b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18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2Кто рано ложится и рано встает здоровье богатство и ум наживет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0256"/>
                          </a:solidFill>
                          <a:latin typeface="Bookman Old Style"/>
                          <a:ea typeface="Times New Roman"/>
                        </a:rPr>
                        <a:t>a) Early to bed and early to rise makes a</a:t>
                      </a:r>
                      <a:r>
                        <a:rPr b="0" lang="ru-RU" sz="1800" spc="-1" strike="noStrike">
                          <a:solidFill>
                            <a:srgbClr val="120256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120256"/>
                          </a:solidFill>
                          <a:latin typeface="Bookman Old Style"/>
                          <a:ea typeface="Times New Roman"/>
                        </a:rPr>
                        <a:t>man</a:t>
                      </a:r>
                      <a:r>
                        <a:rPr b="0" lang="ru-RU" sz="1800" spc="-1" strike="noStrike">
                          <a:solidFill>
                            <a:srgbClr val="120256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120256"/>
                          </a:solidFill>
                          <a:latin typeface="Bookman Old Style"/>
                          <a:ea typeface="Times New Roman"/>
                        </a:rPr>
                        <a:t>healthy wealthy and wis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Здоровье за деньги не купишь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0256"/>
                          </a:solidFill>
                          <a:latin typeface="Bookman Old Style"/>
                          <a:ea typeface="Times New Roman"/>
                        </a:rPr>
                        <a:t>b) Money can buy a</a:t>
                      </a:r>
                      <a:r>
                        <a:rPr b="0" lang="ru-RU" sz="1800" spc="-1" strike="noStrike">
                          <a:solidFill>
                            <a:srgbClr val="120256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120256"/>
                          </a:solidFill>
                          <a:latin typeface="Bookman Old Style"/>
                          <a:ea typeface="Times New Roman"/>
                        </a:rPr>
                        <a:t>tonic, but not healt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3059280" y="4849920"/>
            <a:ext cx="1579320" cy="1515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://g2.dcdn.lt/images/pix/300x188/8e820ff0/file58830417_e7f7bfb9.jpg"/>
          <p:cNvPicPr/>
          <p:nvPr/>
        </p:nvPicPr>
        <p:blipFill>
          <a:blip r:embed="rId3"/>
          <a:stretch/>
        </p:blipFill>
        <p:spPr>
          <a:xfrm>
            <a:off x="5796000" y="4437000"/>
            <a:ext cx="28573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8758440" cy="50785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"/>
          <p:cNvSpPr/>
          <p:nvPr/>
        </p:nvSpPr>
        <p:spPr>
          <a:xfrm>
            <a:off x="285840" y="6984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Foo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5879160" y="71136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unk Foo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2806560" y="936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оект № 1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Карточка покупателя</a:t>
            </a:r>
            <a:br>
              <a:rPr sz="4400"/>
            </a:b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1040" y="2276640"/>
          <a:ext cx="7251480" cy="3701880"/>
        </p:xfrm>
        <a:graphic>
          <a:graphicData uri="http://schemas.openxmlformats.org/drawingml/2006/table">
            <a:tbl>
              <a:tblPr/>
              <a:tblGrid>
                <a:gridCol w="971280"/>
                <a:gridCol w="1094040"/>
                <a:gridCol w="1095120"/>
                <a:gridCol w="1094040"/>
                <a:gridCol w="1093680"/>
                <a:gridCol w="1093680"/>
                <a:gridCol w="809640"/>
              </a:tblGrid>
              <a:tr h="1423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9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20256"/>
                          </a:solidFill>
                          <a:latin typeface="Garamond"/>
                        </a:rPr>
                        <a:t>Lem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</a:tr>
              <a:tr h="379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20256"/>
                          </a:solidFill>
                          <a:latin typeface="Garamond"/>
                        </a:rPr>
                        <a:t>Celery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</a:tr>
              <a:tr h="379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20256"/>
                          </a:solidFill>
                          <a:latin typeface="Garamond"/>
                        </a:rPr>
                        <a:t>Tomato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</a:tr>
              <a:tr h="380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20256"/>
                          </a:solidFill>
                          <a:latin typeface="Garamond"/>
                        </a:rPr>
                        <a:t>Bana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</a:tr>
              <a:tr h="379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20256"/>
                          </a:solidFill>
                          <a:latin typeface="Garamond"/>
                        </a:rPr>
                        <a:t>Carro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</a:tr>
              <a:tr h="379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20256"/>
                          </a:solidFill>
                          <a:latin typeface="Garamond"/>
                        </a:rPr>
                        <a:t>Appl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8ba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914400" cy="765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"/>
          <p:cNvPicPr/>
          <p:nvPr/>
        </p:nvPicPr>
        <p:blipFill>
          <a:blip r:embed="rId2"/>
          <a:stretch/>
        </p:blipFill>
        <p:spPr>
          <a:xfrm>
            <a:off x="3059280" y="2390760"/>
            <a:ext cx="893520" cy="795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"/>
          <p:cNvPicPr/>
          <p:nvPr/>
        </p:nvPicPr>
        <p:blipFill>
          <a:blip r:embed="rId3"/>
          <a:stretch/>
        </p:blipFill>
        <p:spPr>
          <a:xfrm>
            <a:off x="6310440" y="24210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ttp://avatars.stocktwits.net/production/84220/large-1311810443.png?1311810443"/>
          <p:cNvPicPr/>
          <p:nvPr/>
        </p:nvPicPr>
        <p:blipFill>
          <a:blip r:embed="rId4"/>
          <a:stretch/>
        </p:blipFill>
        <p:spPr>
          <a:xfrm>
            <a:off x="7380360" y="2403360"/>
            <a:ext cx="696960" cy="782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http://www.bugaga.ru/uploads/posts/2013-09/1378718685_fakty-o-yuzhnoy-koree-9.jpg"/>
          <p:cNvPicPr/>
          <p:nvPr/>
        </p:nvPicPr>
        <p:blipFill>
          <a:blip r:embed="rId5"/>
          <a:stretch/>
        </p:blipFill>
        <p:spPr>
          <a:xfrm>
            <a:off x="4140360" y="2421000"/>
            <a:ext cx="914400" cy="755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"/>
          <p:cNvPicPr/>
          <p:nvPr/>
        </p:nvPicPr>
        <p:blipFill>
          <a:blip r:embed="rId6"/>
          <a:srcRect l="9281" t="0" r="2919" b="28395"/>
          <a:stretch/>
        </p:blipFill>
        <p:spPr>
          <a:xfrm>
            <a:off x="1908000" y="2362320"/>
            <a:ext cx="914400" cy="771480"/>
          </a:xfrm>
          <a:prstGeom prst="rect">
            <a:avLst/>
          </a:prstGeom>
          <a:ln w="0">
            <a:noFill/>
          </a:ln>
        </p:spPr>
      </p:pic>
      <p:sp>
        <p:nvSpPr>
          <p:cNvPr id="147" name="Выноска-облако 7"/>
          <p:cNvSpPr/>
          <p:nvPr/>
        </p:nvSpPr>
        <p:spPr>
          <a:xfrm>
            <a:off x="5219640" y="620640"/>
            <a:ext cx="3673440" cy="1368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20256"/>
                </a:solidFill>
                <a:latin typeface="Times New Roman"/>
              </a:rPr>
              <a:t>Отметь, закрасив ячейку, какие продукты на какие органы оказывают положительное влияние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Выноска-облако 21"/>
          <p:cNvSpPr/>
          <p:nvPr/>
        </p:nvSpPr>
        <p:spPr>
          <a:xfrm flipH="1">
            <a:off x="900000" y="606600"/>
            <a:ext cx="2232000" cy="950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20256"/>
                </a:solidFill>
                <a:latin typeface="Times New Roman"/>
              </a:rPr>
              <a:t>Используй словарь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071720" y="857160"/>
            <a:ext cx="7162560" cy="5791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203480" y="189000"/>
            <a:ext cx="658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: must or mustn’t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Franklin Gothic Heavy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Franklin Gothic Heavy"/>
              </a:rPr>
              <a:t>CAN   YOU … ?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Franklin Gothic Heavy"/>
              </a:rPr>
              <a:t>DO YOU  LIKE TO…?</a:t>
            </a: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52" name="Picture 4" descr="big_526"/>
          <p:cNvPicPr/>
          <p:nvPr/>
        </p:nvPicPr>
        <p:blipFill>
          <a:blip r:embed="rId1"/>
          <a:stretch/>
        </p:blipFill>
        <p:spPr>
          <a:xfrm rot="20335800">
            <a:off x="1010880" y="1855800"/>
            <a:ext cx="1797120" cy="164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sport_008"/>
          <p:cNvPicPr/>
          <p:nvPr/>
        </p:nvPicPr>
        <p:blipFill>
          <a:blip r:embed="rId2"/>
          <a:stretch/>
        </p:blipFill>
        <p:spPr>
          <a:xfrm>
            <a:off x="3708360" y="1628640"/>
            <a:ext cx="2087640" cy="1711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zdorobjiz-01[1]"/>
          <p:cNvPicPr/>
          <p:nvPr/>
        </p:nvPicPr>
        <p:blipFill>
          <a:blip r:embed="rId3"/>
          <a:srcRect l="0" t="10741" r="0" b="14335"/>
          <a:stretch/>
        </p:blipFill>
        <p:spPr>
          <a:xfrm rot="813000">
            <a:off x="6459120" y="1751040"/>
            <a:ext cx="1736640" cy="188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250920" y="5877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Is  sport  important  for  our  health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10" descr="velosipedist"/>
          <p:cNvPicPr/>
          <p:nvPr/>
        </p:nvPicPr>
        <p:blipFill>
          <a:blip r:embed="rId4"/>
          <a:stretch/>
        </p:blipFill>
        <p:spPr>
          <a:xfrm>
            <a:off x="3492360" y="3860640"/>
            <a:ext cx="259416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156280" cy="5119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84200" y="114480"/>
            <a:ext cx="82915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Составляющие личной гигиены</a:t>
            </a:r>
            <a:endParaRPr b="1" lang="en-US" sz="36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6:05:05Z</dcterms:created>
  <dc:creator>Прост</dc:creator>
  <dc:description/>
  <dc:language>en-US</dc:language>
  <cp:lastModifiedBy>user</cp:lastModifiedBy>
  <dcterms:modified xsi:type="dcterms:W3CDTF">2018-01-26T14:56:42Z</dcterms:modified>
  <cp:revision>113</cp:revision>
  <dc:subject/>
  <dc:title>Слайд 1</dc:title>
</cp:coreProperties>
</file>